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BAAF-0B33-4831-A14E-6DDC701A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E9F6-99BF-4145-AA96-37ACA79B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D458-23DF-4274-9B7D-F1866F25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3D49-F73A-49E9-B046-B78BB58A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A9EB-09F1-4071-94B5-E9D7CEE1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B108-F7A1-41B9-8615-D335AECC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FF05-4F53-476C-848A-ED9D2D76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57C1-3821-4F0A-B4DD-D3BC4B66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35CC-A77A-4D70-844F-AD4026D1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85C5-325F-4C2F-89CD-12069176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ECEF-EA91-4285-9B0E-B83A56C2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3F774-2CD2-4445-9F89-16675308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2C49-56CB-4211-A133-22E02B3A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C268-CA16-41C8-B35A-0A3A9928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23F1-12A7-4A00-9F4C-0C5F0E26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69E3-6445-4DEF-8FD1-26AC7EC9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3586-F761-4D21-B5DC-FD59390C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74E8-C9F4-4F46-B71B-55CF0C59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37A0-8EF7-42D6-BF1A-0220D1EB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6FF7-D953-48B6-B0CD-5125DA0B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0803B-E677-4FB5-8FE7-156C40EB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169BA-11CE-4331-84BF-A6E4FCE5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DAC7-E5C3-4ED7-82F0-5B9412DF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4479-9123-480A-B51D-2EE9392B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81D9-ABF0-46B8-89B4-8EE99DEB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93685-27FE-4C9F-BFCA-B8FDCACE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249E-C557-47FE-885A-5DF07DEF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453D0-9659-4D6D-842E-3D658C28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8FA2-1F14-44BC-A7CC-7ADCA765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B3B12-65CB-4E8A-8E0E-69F20902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C03C-9988-4CBF-8064-3705C3FA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3F355-E555-44A8-9B0C-A6E84FF6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E8EA-052F-4F0F-878E-B10BC0B6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FAF8-96E8-458B-974F-20F0581D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2721A-72A8-44B4-A68F-0ED1C246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C6D46-AD8F-439A-8182-6D5BC064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260F2-8FEA-4599-8B95-3442CF51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DFB56-17E0-4D4E-9B6D-30A3F151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AE5E-AF75-4C0E-B16E-1C7E892A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5E0CC-472B-48B0-A1E6-9B61A2DB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63C68-BB69-4490-8B4D-2DFA6D67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8EB41-04D9-41BB-83B5-2C4C09BE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6FF5-7F6C-4C6C-8D11-A5A8F485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3C52-FBCB-4525-917C-F76488D6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7933-6737-4045-9BA8-F775C83D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B146-84C7-41D2-AC84-72281A62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A0BE-6F40-4BB9-BAE2-0C4B0C23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1101-9E36-4FDE-A2F5-B9CBA23C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660F-9B2C-42F8-A270-78FD4BCFFBC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4EB6-6BEF-4E88-ACC2-5985B62CBA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F969-D95A-4202-A815-6DE6CC9F9E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227A-38A9-4D76-A86C-DE31D7825B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Georgia"/>
              </a:rPr>
              <a:t>Computer Software engine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By: Eric M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629400" y="23623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620120" y="304920"/>
            <a:ext cx="12189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2344E-006 L 0.00833 0.49376 E">
                                      <p:cBhvr>
                                        <p:cTn id="6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00"/>
                </a:solidFill>
                <a:latin typeface="Tahoma"/>
              </a:rPr>
              <a:t>What is This?</a:t>
            </a:r>
            <a:endParaRPr b="0" lang="en-US" sz="7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engineers make programs to run a compu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programming programmers tell a computer how to function with special co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to fix any bug or problem that may hap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lso must have good coding skills (how you fix problems and program the comput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1768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09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What Courses Do You Need To Take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employers like to employees with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HELOR’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gree for this jo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ommon Degree’s are- Computer Science, Software Engineering, and Computer Sys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523880" y="4572000"/>
            <a:ext cx="167652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What is the pay (computer applications software) ??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2004 people made between $59,130 and $92,130. lowest paid made less than about $46,000 higher paid made more than about $114,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581280" y="4038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4 0.042 -0.0213 C 0.048 -0.0213 0.059 -0.00399 0.064 -0.00399 C 0.071 -0.00399 0.078 -0.00932 0.091 -0.00932 L 0.1 -0.2157 L 0.11 0.03329 L 0.122 0 L 0.132 -0.00932 L 0.156 -0.00133 C 0.167 -0.00533 0.176 -0.02264 0.187 -0.02929 C 0.191 -0.03062 0.2 -0.03196 0.206 -0.02929 C 0.212 -0.02663 0.217 -0.00799 0.219 -0.00666 C 0.222 -0.00133 0.229 -0.00666 0.233 -0.00399 L 0.239 0 L 0.25 0 E">
                                      <p:cBhvr>
                                        <p:cTn id="7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8331E-006 C -0.04479 -0.00394 -0.05035 -0.01249 -0.07986 -6.8331E-006 C -0.10782 -0.01156 -0.13663 -0.00024 -0.16441 0.006 C -0.19722 -0.00047 -0.18629 0.00485 -0.19097 -0.05618 C -0.18941 -0.09201 -0.18785 -0.12437 -0.19323 -0.15974 C -0.18872 -0.18933 -0.18768 -0.22007 -0.17986 -0.2485 C -0.17413 -0.26954 -0.15521 -0.28595 -0.14219 -0.29867 C -0.12483 -0.31554 -0.11216 -0.32987 -0.09792 -0.35206 C -0.09097 -0.37842 -0.06528 -0.36224 -0.04879 -0.35507 C -0.04445 -0.35322 -0.03542 -0.34906 -0.03542 -0.34906 C -0.03021 -0.3442 -0.0257 -0.33796 -0.01997 -0.33426 C -0.01441 -0.33057 -0.00782 -0.33149 -0.00209 -0.32825 C 0.0085 -0.32224 0.00764 -0.32155 0.01788 -0.31069 C 0.02187 -0.29474 0.02743 -0.30121 0.03767 -0.29289 C 0.06441 -0.27162 0.0585 -0.27624 0.08003 -0.25151 C 0.08021 -0.25082 0.08281 -0.23071 0.08455 -0.2277 C 0.08906 -0.22007 0.10434 -0.21591 0.10434 -0.21591 C 0.11302 -0.1995 0.12743 -0.19464 0.13767 -0.18031 C 0.13958 -0.14286 0.13611 -0.12969 0.15121 -0.10357 C 0.15364 -0.08808 0.15816 -0.07698 0.14444 -0.07097 C 0.13455 -0.05317 0.12691 -0.04069 0.11788 -0.02058 C 0.11597 -0.01619 0.11041 -0.01873 0.10677 -0.01758 C 0.10434 -0.01688 0.10225 -0.01549 0.1 -0.0148 C 0.09566 -0.01365 0.09114 -0.01295 0.0868 -0.0118 C 0.0835 -0.01087 0.08073 -0.00995 0.07778 -0.00879 C 0.07326 -0.00694 0.06458 -0.00278 0.06458 -0.00278 C 0.0533 0.01178 0.04861 0.00947 0.03125 0.01201 C -0.00452 0.00878 -0.00538 0.02311 -5.55556E-007 -6.8331E-006 Z">
                                      <p:cBhvr>
                                        <p:cTn id="82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What does it pay (Computer software engineer) ??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between $63,000 and $92,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paid made less than about $50,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paid made over $118,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1587600" cy="168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543800" y="68580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495680" y="4038480"/>
            <a:ext cx="1795680" cy="1833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How many jobs were there last year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were only about 800,000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30% worked in computer system desig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ites Use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Bls.gov/K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8:34:37Z</dcterms:created>
  <dc:creator>eric.musser</dc:creator>
  <dc:description/>
  <dc:language>en-US</dc:language>
  <cp:lastModifiedBy>eric.musser</cp:lastModifiedBy>
  <dcterms:modified xsi:type="dcterms:W3CDTF">2008-05-02T13:36:47Z</dcterms:modified>
  <cp:revision>11</cp:revision>
  <dc:subject/>
  <dc:title>Computer Software engineer</dc:title>
</cp:coreProperties>
</file>